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C301B8-37ED-4CF8-ACD2-1971FB112F2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43A4FE-04C4-469B-A952-C6F54C143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119BA8-5749-4C5C-B93B-92366ACB1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9A4999-8D41-42C0-AB38-73FB4684FB0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ABBA54-208F-495D-916E-04C63B93E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3FC5D4-E9F1-4412-A431-25978035C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085FDD-851B-4477-9FA1-CB6E397E6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A95114-E445-4093-9C10-962D8A75D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009FC5-02A0-4D1F-953B-D9876441F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4A564B-D7C4-424D-A06D-1B04758A2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26056A-9291-4867-A962-925E4BCF8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2B35B7-403B-4CDC-B1C8-26FF5FBB6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87BA1-FAB2-44BD-A5D5-3373FD0965F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60498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骨肉瘤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7-1 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儿明确诊断为骨肉瘤。施行化疗后肿瘤继续增大，影像学检查示股骨广泛病灶，予以髋关节离断术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儿术后的护理要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骨肉瘤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恐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焦虑 与担心肢体功能丧失、预后不良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 与肿瘤压迫周围组织、病理性骨折、手术创伤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躯体活动障碍 与关节活动受限、制动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身体意象紊乱 与截肢和化疗副作用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病理性骨折、幻肢痛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骨肉瘤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动态评估患者的疼痛程度，采取合适的镇痛措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肢制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药物镇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骨肉瘤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避免加重疼痛的因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应用镇痛药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必要时应用自控镇痛泵或神经阻滞等方法缓解疼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用药的反应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肿瘤局部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骨肉瘤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化疗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做好化疗前的准备工作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药观察及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化疗过程中的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化疗并发症的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适应性训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骨肉瘤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肢术后患者抬高患肢；膝部手术后保持膝关节屈曲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°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距小腿关节屈曲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9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°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；髋部手术后保持髋关节外展中立位；脊柱手术后患者取平卧位，采取轴线翻身法；骶骨肿瘤切除术后患者俯卧侧卧交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骨肉瘤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生命体征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肢血运的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伤口引流液的量、颜色、性状以及伤口敷料渗血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后即开始进行被动和主动的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骨肉瘤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截肢术后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截肢术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应抬高患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骨肉瘤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截肢术后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的观察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出血和血肿：最常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幻肢痛：术前做好解释；早期装配假肢并下床活动锻炼；使用理疗、封闭、神经阻断的方法消除幻肢痛；采取增加舒适的措施；采用暗示的方法，尽量减少药物的使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骨肉瘤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残肢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残端给予均匀压迫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关节活动训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肌力训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残端按摩、拍打及蹬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鼓励患者拆线后尽早使用临时义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举骨肉瘤的发病特点和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区分骨肉瘤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odman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三角和日光射线现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阐述骨肉瘤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骨肉瘤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骨肉瘤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指导患者树立平稳心态，消除心理顾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讲解功能锻炼的重要性，指导正确的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教会患者或家属自我检查和监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仍有疼痛的患者，告知患者止痛药物的使用方法、注意事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骨肉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 目前还不清楚，可能与遗传学因素、病毒感染、放射线损伤有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早期间歇性疼痛，晚期发展为持续性疼痛；可触及明显增大的肿块，瘤体表面血管怒张；肢体活动受限，易合并病理性骨折；晚期有肺转移表现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典型表现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odman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三角和“日光射线”现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 全身化疗（特别是应用新辅助化疗）结合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骨肉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 术前护理应加强患者及家属的心理疏导，饮食护理，采取适宜的措施控制和缓解疼痛，做好肿瘤局部护理，加强化疗过程的观察和护理，术前进行适应性训练。术后应采取正确的体位，严密观察病情，指导功能锻炼，对截肢患者应安置适当体位，观察出血和血肿、幻肢痛等并发症，指导患者进行残肢功能锻炼，尽快装配义肢，提高生活自理能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骨肉瘤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骨肉瘤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osteosarcom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也称为成骨肉瘤，在原发骨肿瘤中居第二位，仅次于浆细胞骨髓瘤，其组织学特点是肿瘤细胞产生骨样或者不成熟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目前常用的是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G-T-M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外科分期系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7-1 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儿，女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月余前出现左大腿持续性隐痛不适，左大腿中段肿胀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检：左大腿中段稍肿大，扪及肿块约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c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×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c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大小，局部压痛，皮肤无破溃，无静脉曲张，左下肢感觉正常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 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：左股骨中段有骨破坏病灶，局部骨皮质增厚，骨膜反应日光样表现，软组织肿大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：碱性磷酸酶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93IU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26IU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，乳酸脱氢酶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47IU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9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92IU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该患儿护理评估内容有哪些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骨肉瘤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最早出现的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肿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活动受限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全身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骨肉瘤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44360" y="1196640"/>
            <a:ext cx="9180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诊断骨肉瘤的重要手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于检测肺转移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RI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可确定髓腔内肿瘤侵犯的范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扫描 有利于显示骨内的跳跃和转移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沉、碱性磷酸酶、血清铜、锌、铜锌比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骨肉瘤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2" name="图片 9" descr=""/>
          <p:cNvPicPr/>
          <p:nvPr/>
        </p:nvPicPr>
        <p:blipFill>
          <a:blip r:embed="rId1"/>
          <a:stretch/>
        </p:blipFill>
        <p:spPr>
          <a:xfrm>
            <a:off x="457200" y="1341360"/>
            <a:ext cx="4141800" cy="3662280"/>
          </a:xfrm>
          <a:prstGeom prst="rect">
            <a:avLst/>
          </a:prstGeom>
          <a:ln w="0">
            <a:noFill/>
          </a:ln>
        </p:spPr>
      </p:pic>
      <p:sp>
        <p:nvSpPr>
          <p:cNvPr id="123" name="矩形 4"/>
          <p:cNvSpPr/>
          <p:nvPr/>
        </p:nvSpPr>
        <p:spPr>
          <a:xfrm>
            <a:off x="1260720" y="507528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Codman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三角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4" name="图片 8" descr=""/>
          <p:cNvPicPr/>
          <p:nvPr/>
        </p:nvPicPr>
        <p:blipFill>
          <a:blip r:embed="rId2"/>
          <a:stretch/>
        </p:blipFill>
        <p:spPr>
          <a:xfrm>
            <a:off x="5010120" y="1379520"/>
            <a:ext cx="3162240" cy="3728880"/>
          </a:xfrm>
          <a:prstGeom prst="rect">
            <a:avLst/>
          </a:prstGeom>
          <a:ln w="0">
            <a:noFill/>
          </a:ln>
        </p:spPr>
      </p:pic>
      <p:sp>
        <p:nvSpPr>
          <p:cNvPr id="125" name="矩形 5"/>
          <p:cNvSpPr/>
          <p:nvPr/>
        </p:nvSpPr>
        <p:spPr>
          <a:xfrm>
            <a:off x="5552640" y="5075280"/>
            <a:ext cx="122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“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日光射线”现象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骨肉瘤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和性别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遗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活和工作环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既往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家族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外伤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骨肉瘤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化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般术前进行化疗，术后根据情况选择治疗方案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方式包括截肢术、改良截肢术、半关节移植术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11:24:32Z</dcterms:modified>
  <cp:revision>108</cp:revision>
  <dc:subject/>
  <dc:title>内科护理学</dc:title>
</cp:coreProperties>
</file>